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6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5.png" ContentType="image/png"/>
  <Override PartName="/ppt/media/image114.jpeg" ContentType="image/jpeg"/>
  <Override PartName="/ppt/media/image34.png" ContentType="image/png"/>
  <Override PartName="/ppt/media/image33.png" ContentType="image/png"/>
  <Override PartName="/ppt/media/image32.png" ContentType="image/png"/>
  <Override PartName="/ppt/media/image13.png" ContentType="image/png"/>
  <Override PartName="/ppt/media/image23.wmf" ContentType="image/x-wmf"/>
  <Override PartName="/ppt/media/image66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1.wmf" ContentType="image/x-wmf"/>
  <Override PartName="/ppt/media/image74.png" ContentType="image/png"/>
  <Override PartName="/ppt/media/image28.png" ContentType="image/png"/>
  <Override PartName="/ppt/media/image9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11.png" ContentType="image/png"/>
  <Override PartName="/ppt/media/image108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40.png" ContentType="image/png"/>
  <Override PartName="/ppt/media/image25.png" ContentType="image/png"/>
  <Override PartName="/ppt/media/image90.png" ContentType="image/png"/>
  <Override PartName="/ppt/media/image113.jpeg" ContentType="image/jpeg"/>
  <Override PartName="/ppt/media/image88.png" ContentType="image/png"/>
  <Override PartName="/ppt/media/image62.png" ContentType="image/png"/>
  <Override PartName="/ppt/media/image106.png" ContentType="image/png"/>
  <Override PartName="/ppt/media/image99.png" ContentType="image/png"/>
  <Override PartName="/ppt/media/image68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5.wmf" ContentType="image/x-wmf"/>
  <Override PartName="/ppt/media/image104.png" ContentType="image/png"/>
  <Override PartName="/ppt/media/image110.jpeg" ContentType="image/jpeg"/>
  <Override PartName="/ppt/media/image60.png" ContentType="image/png"/>
  <Override PartName="/ppt/media/image70.png" ContentType="image/png"/>
  <Override PartName="/ppt/media/image111.jpeg" ContentType="image/jpeg"/>
  <Override PartName="/ppt/media/image105.png" ContentType="image/png"/>
  <Override PartName="/ppt/media/image55.wmf" ContentType="image/x-wmf"/>
  <Override PartName="/ppt/media/image98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9.jpeg" ContentType="image/jpeg"/>
  <Override PartName="/ppt/media/image101.png" ContentType="image/png"/>
  <Override PartName="/ppt/media/image86.png" ContentType="image/png"/>
  <Override PartName="/ppt/media/image85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87.png" ContentType="image/png"/>
  <Override PartName="/ppt/media/image100.wmf" ContentType="image/x-wmf"/>
  <Override PartName="/ppt/media/image92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67.png" ContentType="image/png"/>
  <Override PartName="/ppt/media/image24.wmf" ContentType="image/x-wmf"/>
  <Override PartName="/ppt/media/image20.wmf" ContentType="image/x-wmf"/>
  <Override PartName="/ppt/media/image63.png" ContentType="image/png"/>
  <Override PartName="/ppt/media/image22.wmf" ContentType="image/x-wmf"/>
  <Override PartName="/ppt/media/image65.png" ContentType="image/png"/>
  <Override PartName="/ppt/media/image21.wmf" ContentType="image/x-wmf"/>
  <Override PartName="/ppt/media/image6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97.png" ContentType="image/png"/>
  <Override PartName="/ppt/media/image54.wmf" ContentType="image/x-wmf"/>
  <Override PartName="/ppt/media/image107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57.png" ContentType="image/png"/>
  <Override PartName="/ppt/media/image112.jpeg" ContentType="image/jpeg"/>
  <Override PartName="/ppt/media/image15.png" ContentType="image/png"/>
  <Override PartName="/ppt/media/image8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png"/><Relationship Id="rId11" Type="http://schemas.openxmlformats.org/officeDocument/2006/relationships/image" Target="../media/image98.png"/><Relationship Id="rId12" Type="http://schemas.openxmlformats.org/officeDocument/2006/relationships/image" Target="../media/image99.png"/><Relationship Id="rId1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Roy.Dev@EPA.g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2514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iswadev (Dev)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PA Post-doc. (Dec. 28, 2003 to July 07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urrently with EPA/Region-6 Air Planning Section, Dallas,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ptember 20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MD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-111C, NERL, RTP, NC 277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cation of Satellite Data to Improve Model Performance and Evaluation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9900"/>
                </a:solidFill>
                <a:latin typeface="Arial"/>
              </a:rPr>
              <a:t>1b. CMAQ CO evaluation using MOPITT</a:t>
            </a:r>
            <a:endParaRPr b="1" i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76212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are CMAQ predicted CO columns with MOPITT o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4723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ile reallocating fire emissions does it improve CO comparison with dat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ith: J. Szykman (EPA/NASA), C. Kittaka (NASA/LaRC/SAIC), Jim Godowitch, and Tom Pi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6478560" cy="5019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400800" y="17524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400800" y="1981080"/>
                <a:ext cx="25146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v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400800" y="3505320"/>
            <a:ext cx="2362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Identity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Avg.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error cov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55627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‘weighting function’ the mixing ratio is adjusted at each level due to effects of all possible lev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Passive MOPITT does not match CMAQ vertical resolution hence weighting fn.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14400" y="609480"/>
            <a:ext cx="74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CMAQ Column CO Base and Reallocated columns with MOPI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19920" y="19051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4952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Initial CMAQ 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 MOPITT Data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   Revised CM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CMAQ CO vs. MOPITT CO at MOPITT pressure levels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Base Fire Emissions  and  Reallocated Fire Emissions - August 22-31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Pacific Northwest Domain</a:t>
            </a:r>
            <a:endParaRPr b="1" i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778200" cy="3778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778200" cy="3778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3383600">
            <a:off x="6254280" y="3070080"/>
            <a:ext cx="919440" cy="2337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763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1c.  2005 fire emission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velop relationship between ground-based area burned and MODIS fire counts for 2002 and use the same for creating 2005 fire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914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use MODIS fire count information and ground observations record for creating 2005 fire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15000"/>
            <a:ext cx="8534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:    George Pouliot, Tom Pace, David Mobley, and Tom Pi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297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8458200" cy="28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 flipH="1">
            <a:off x="5486040" y="914400"/>
            <a:ext cx="304920" cy="685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895480" y="1219320"/>
            <a:ext cx="609840" cy="4572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828440" y="45720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38080" y="4114440"/>
            <a:ext cx="457200" cy="6094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3047760" y="4191120"/>
            <a:ext cx="228600" cy="7617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028840" y="4267080"/>
            <a:ext cx="60948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552720" y="3962520"/>
            <a:ext cx="7621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530440"/>
            <a:ext cx="19810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Terra collects data on “descending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5578560"/>
            <a:ext cx="198144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Aqua collects data on “ascending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09480"/>
            <a:ext cx="137160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f06"/>
                </a:solidFill>
                <a:latin typeface="Times New Roman"/>
              </a:rPr>
              <a:t>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3809880"/>
            <a:ext cx="137160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31a"/>
                </a:solidFill>
                <a:latin typeface="Times New Roman"/>
              </a:rPr>
              <a:t>AQ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5428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Estimate Burned Area using N</a:t>
            </a:r>
            <a:r>
              <a:rPr b="1" i="1" lang="en-US" sz="3600" spc="-1" strike="noStrike" baseline="-25000">
                <a:solidFill>
                  <a:srgbClr val="ff99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447920" y="1828800"/>
                <a:ext cx="60958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3520" y="3505320"/>
            <a:ext cx="792468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area burned in a spatial region labeled by index ‘i’ and during a fixed time period labeled by index ‘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No. of fire pixels obs. within the same region during sa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onst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a Burned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tain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-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1828800"/>
            <a:ext cx="6095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871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cheme for MODIS pixel clustering and match up with ground-report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cy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95280" y="2448000"/>
            <a:ext cx="3886200" cy="1695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0840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209680" y="4419720"/>
                <a:ext cx="1905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fireda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98108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lifetime of the fire;  n = no. of 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4343400"/>
            <a:ext cx="2514600" cy="8380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Burned Area in Acres/month and PM</a:t>
            </a:r>
            <a:r>
              <a:rPr b="1" i="1" lang="en-US" sz="3600" spc="-1" strike="noStrike" baseline="-25000">
                <a:solidFill>
                  <a:srgbClr val="ff9900"/>
                </a:solidFill>
                <a:latin typeface="Arial"/>
              </a:rPr>
              <a:t>2.5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 Emissions - 2002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5333760" cy="419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0" y="2971800"/>
            <a:ext cx="198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Spring: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Summer: wild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MODIS imagery August 12, 2002 and PM</a:t>
            </a:r>
            <a:r>
              <a:rPr b="1" i="1" lang="en-US" sz="3200" spc="-1" strike="noStrike" baseline="-25000">
                <a:solidFill>
                  <a:srgbClr val="ff9900"/>
                </a:solidFill>
                <a:latin typeface="Arial"/>
              </a:rPr>
              <a:t>2.5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 emissions from Biscuit Fire, OR. using N</a:t>
            </a:r>
            <a:r>
              <a:rPr b="1" i="1" lang="en-US" sz="3200" spc="-1" strike="noStrike" baseline="-25000">
                <a:solidFill>
                  <a:srgbClr val="ff99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-Area burned relationship</a:t>
            </a:r>
            <a:endParaRPr b="1" i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52120" y="1676520"/>
            <a:ext cx="6691320" cy="3465360"/>
            <a:chOff x="852120" y="1676520"/>
            <a:chExt cx="6691320" cy="34653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852840" y="2351160"/>
              <a:ext cx="2841480" cy="26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852120" y="1811160"/>
              <a:ext cx="29322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IS Imagery, Aug. 12, 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061520" y="1676520"/>
              <a:ext cx="3481920" cy="34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269320" y="3299400"/>
              <a:ext cx="731160" cy="121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11120" y="3586680"/>
              <a:ext cx="642240" cy="1012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4880" y="2800440"/>
              <a:ext cx="549000" cy="33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41480" y="3163680"/>
              <a:ext cx="552960" cy="4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53720" y="4374000"/>
              <a:ext cx="5500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19080" y="2126520"/>
              <a:ext cx="5500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85720" y="4036680"/>
              <a:ext cx="54936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94440" y="3137760"/>
              <a:ext cx="54900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44240" y="2800440"/>
              <a:ext cx="5500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352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NEI:  All emissions in 1 grid;  Satellite : aids in spatial re-distribution: removal of excess NOx hence over-estimate of surface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EPA Post-doc Project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4060" t="7597" r="5340" b="8235"/>
          <a:stretch/>
        </p:blipFill>
        <p:spPr>
          <a:xfrm>
            <a:off x="1295280" y="4800600"/>
            <a:ext cx="1905120" cy="1492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5105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6910"/>
                </a:solidFill>
                <a:latin typeface="Times New Roman"/>
              </a:rPr>
              <a:t>MOD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5943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6910"/>
                </a:solidFill>
                <a:latin typeface="Times New Roman"/>
              </a:rPr>
              <a:t>MOPI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5410080"/>
            <a:ext cx="1904760" cy="457200"/>
          </a:xfrm>
          <a:prstGeom prst="leftRightArrow">
            <a:avLst>
              <a:gd name="adj1" fmla="val 50000"/>
              <a:gd name="adj2" fmla="val 829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2578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oudyHandtooled BT"/>
              </a:rPr>
              <a:t>CMA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14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90360" y="9144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eallocation has re-distributed the total carbon concentrations from state-wide extent to a more localized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patterns suggest that the MM5 simulation captured shifts in wind direction adequ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ocated CMAQ simulation adjusted with plume-rise predicts higher total carbon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eallocation can reduce biases in the base simulation of total carbon during non-fire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eallocation yield a better correlation with IMPROVE data obtained from locations having a significant separation from the fir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Q CO columns agree better after using MOPITT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S fire detect information can improve spatial and temporal allocation of emissions from large fires with a high degree of conf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ummary on wildfire emissions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2a, 2b  CMAQ AOD comparison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46479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thoroughly characterize the performance of the emissions meteorological and chemical transport modeling components of the Models-3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914400"/>
            <a:ext cx="80010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ompare CMAQ optical depth with MODIS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compare CMAQ w/AERONET, MODIS and IM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spatial variability of AOD and develop PM2.5-AOD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valuation of MM5 ground temperatur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compare with aircraft, GOES, and MO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 inter-relate skin temperature errors with PBL height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48640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a: With Rohit Mathur, Alice Gilliland, and Steven Ho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b: With Adam Reff, Brian Eder &amp; Steven Ho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Two fold objective -- evaluation of CMAQ AOD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horoughly characterize the performance of the emissions, meteorological and chemical/transport modeling components of the Models-3 system and build confidence within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ursue inter-relating satellite AOD with PM2.5 (modeled and meas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998640"/>
            <a:ext cx="769644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Satellite Aerosol Optical De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OD) products offer new and challenging opportunities for studying regional distribution of particulate matter and scopes for rigor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odel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EPA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based on total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nce it is important to assess model performance of 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impact of CMAQ model performance for individual species on the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rst need to establish whether AOD satell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can be useful as additional inform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eval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er period of 2001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588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CMAQ and Terra/MODIS AO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86680" cy="5462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1522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MAQ-Terra/MODIS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4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3"/>
            <a:endCxn id="237" idx="3"/>
          </p:cNvCxnSpPr>
          <p:nvPr/>
        </p:nvCxnSpPr>
        <p:spPr>
          <a:xfrm>
            <a:off x="2437920" y="3763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35" idx="1"/>
            <a:endCxn id="235" idx="1"/>
          </p:cNvCxnSpPr>
          <p:nvPr/>
        </p:nvCxnSpPr>
        <p:spPr>
          <a:xfrm>
            <a:off x="685440" y="29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0" name=""/>
          <p:cNvCxnSpPr>
            <a:stCxn id="235" idx="1"/>
            <a:endCxn id="235" idx="1"/>
          </p:cNvCxnSpPr>
          <p:nvPr/>
        </p:nvCxnSpPr>
        <p:spPr>
          <a:xfrm>
            <a:off x="685440" y="29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2514600" y="3581280"/>
            <a:ext cx="152280" cy="838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895480" y="228600"/>
            <a:ext cx="426744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MAQ AOD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9144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onstructed Mass-Extinction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alm et al. 1994,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inkowski &amp; Roselle, 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‘Reconstructed’ extinction coefficients are based on assumption that organic mass is soluble up to 50% by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8240" y="2028960"/>
                <a:ext cx="9021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6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A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33520" y="2895480"/>
            <a:ext cx="807696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=Organic mass, FS=Fine Soil, LAC=Light Absorb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(elemental carbon), CM=Coarse mass. Concent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fic scattering coefficient 0.003, 0.004, 0.001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6 are based on assuming log-normal particle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d pressure, water-vapor mixing ratio and temperatur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compute the vapor pressure and R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RH value is used to calculate the exact humidity grow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n LUT (Malm et al. 1994; Binkowski &amp; Rosell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2209680" cy="2003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rcRect l="8828" t="0" r="0" b="0"/>
          <a:stretch/>
        </p:blipFill>
        <p:spPr>
          <a:xfrm>
            <a:off x="2590920" y="1295280"/>
            <a:ext cx="1998720" cy="2057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2361960" cy="2148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rcRect l="9164" t="0" r="0" b="0"/>
          <a:stretch/>
        </p:blipFill>
        <p:spPr>
          <a:xfrm>
            <a:off x="457200" y="1295280"/>
            <a:ext cx="1949400" cy="2057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320" y="30492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CMAQ AOD vs MODIS AOD on some eventful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rcRect l="11762" t="0" r="0" b="0"/>
          <a:stretch/>
        </p:blipFill>
        <p:spPr>
          <a:xfrm>
            <a:off x="4648320" y="1295280"/>
            <a:ext cx="2004840" cy="2041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05720" y="1295280"/>
            <a:ext cx="2189160" cy="2171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610160" y="3381480"/>
            <a:ext cx="2324160" cy="202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6705720" y="3352680"/>
            <a:ext cx="2438280" cy="2063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91440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Pattern ---Front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228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572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Time-series of CMAQ AOD, SSA and MODIS A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Grid-cell [114, 30] having large fire in FL (May 19-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510552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Grid-cell [30, 90] having large fire in WA. (Aug 11-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0" y="1143000"/>
          <a:ext cx="4029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4029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62120" y="1143000"/>
          <a:ext cx="4019400" cy="40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01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295280" y="304812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447920" y="963720"/>
            <a:ext cx="6705360" cy="5132160"/>
            <a:chOff x="1447920" y="963720"/>
            <a:chExt cx="6705360" cy="513216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4876920" y="3554280"/>
              <a:ext cx="2895480" cy="24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rcRect l="0" t="18699" r="0" b="0"/>
            <a:stretch/>
          </p:blipFill>
          <p:spPr>
            <a:xfrm>
              <a:off x="4952880" y="963720"/>
              <a:ext cx="3200400" cy="21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rcRect l="0" t="20404" r="0" b="0"/>
            <a:stretch/>
          </p:blipFill>
          <p:spPr>
            <a:xfrm>
              <a:off x="1600200" y="963720"/>
              <a:ext cx="3124080" cy="20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1600200" y="3630600"/>
              <a:ext cx="274320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4343400" y="3402000"/>
              <a:ext cx="43164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447920" y="4849920"/>
              <a:ext cx="17524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S AOD (0-4 sca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 24, 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5002200"/>
              <a:ext cx="17528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S AOD (0-4 sca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 25, 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638680" y="43164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0080" y="431604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095880" y="4392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209680" y="43164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514240" y="446868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971800" y="46213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304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Wildfire signature on MODIS A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752480" y="228600"/>
            <a:ext cx="4068720" cy="5927760"/>
            <a:chOff x="1752480" y="228600"/>
            <a:chExt cx="4068720" cy="592776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rcRect l="0" t="18101" r="0" b="9503"/>
            <a:stretch/>
          </p:blipFill>
          <p:spPr>
            <a:xfrm>
              <a:off x="1809720" y="473040"/>
              <a:ext cx="188424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rcRect l="0" t="21026" r="0" b="12407"/>
            <a:stretch/>
          </p:blipFill>
          <p:spPr>
            <a:xfrm>
              <a:off x="1809720" y="2035080"/>
              <a:ext cx="183492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rcRect l="0" t="18797" r="0" b="13548"/>
            <a:stretch/>
          </p:blipFill>
          <p:spPr>
            <a:xfrm>
              <a:off x="1778040" y="3475080"/>
              <a:ext cx="18921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4"/>
            <a:srcRect l="0" t="19998" r="0" b="13335"/>
            <a:stretch/>
          </p:blipFill>
          <p:spPr>
            <a:xfrm>
              <a:off x="3792240" y="473040"/>
              <a:ext cx="191304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5"/>
            <a:srcRect l="0" t="19008" r="0" b="14461"/>
            <a:stretch/>
          </p:blipFill>
          <p:spPr>
            <a:xfrm>
              <a:off x="3792240" y="1971720"/>
              <a:ext cx="20289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6"/>
            <a:srcRect l="0" t="16738" r="0" b="12975"/>
            <a:stretch/>
          </p:blipFill>
          <p:spPr>
            <a:xfrm>
              <a:off x="3792240" y="3384720"/>
              <a:ext cx="20289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376360" y="317520"/>
              <a:ext cx="102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76280" y="228600"/>
              <a:ext cx="1278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78080" y="1712880"/>
              <a:ext cx="13348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58920" y="3251160"/>
              <a:ext cx="13348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0200" y="4711680"/>
              <a:ext cx="144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OC 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94000" y="228600"/>
              <a:ext cx="122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BC 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52680" y="1797120"/>
              <a:ext cx="139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A25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81400" y="3213000"/>
              <a:ext cx="140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ctional CM  A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7"/>
            <a:srcRect l="0" t="15372" r="0" b="7770"/>
            <a:stretch/>
          </p:blipFill>
          <p:spPr>
            <a:xfrm>
              <a:off x="1809720" y="4876920"/>
              <a:ext cx="18032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752480" y="228600"/>
              <a:ext cx="4011480" cy="592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09880" y="49528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7910"/>
                  </a:solidFill>
                  <a:latin typeface="Times New Roman"/>
                </a:rPr>
                <a:t>August 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7910"/>
                  </a:solidFill>
                  <a:latin typeface="Times New Roman"/>
                </a:rPr>
                <a:t>Fract. A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934320" y="24382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172200" y="2514600"/>
                <a:ext cx="236232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O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943600" y="380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ate contributes ~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Data Source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oderate Resolution Imaging Spectroradiome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PIT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easurement of Pollution in the Trop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rrelation radi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ost. Operational Environmental Satel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RONE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SA/Aerosol Roboti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agency monitoring network for class I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nitoring network for urb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P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crowave temperature profiler (JPL) TEXAQ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mann IR Prob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craft mounted sensor (JPL) TEXAQ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05720" y="990720"/>
            <a:ext cx="1218960" cy="91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990360" cy="680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934320" y="251460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934320" y="4191120"/>
            <a:ext cx="1295280" cy="84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722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17348" r="0" b="0"/>
          <a:stretch/>
        </p:blipFill>
        <p:spPr>
          <a:xfrm>
            <a:off x="914400" y="762120"/>
            <a:ext cx="3495600" cy="2541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8473" r="0" b="0"/>
          <a:stretch/>
        </p:blipFill>
        <p:spPr>
          <a:xfrm>
            <a:off x="4510080" y="838080"/>
            <a:ext cx="3795840" cy="2691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176800" y="3255840"/>
            <a:ext cx="2928960" cy="2916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247760" y="3252960"/>
            <a:ext cx="2862360" cy="2866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562720" y="35053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*cmaq a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2860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AQ AOD X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JA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28600"/>
            <a:ext cx="2514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S Avg. AOD JJA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OD Correlation Modis ~ CMAQ 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0" t="18989" r="0" b="0"/>
          <a:stretch/>
        </p:blipFill>
        <p:spPr>
          <a:xfrm>
            <a:off x="1371600" y="1676520"/>
            <a:ext cx="6781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OD NMB and NME:  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19800" r="0" b="0"/>
          <a:stretch/>
        </p:blipFill>
        <p:spPr>
          <a:xfrm>
            <a:off x="152280" y="2666880"/>
            <a:ext cx="4467240" cy="2800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0" t="19012" r="0" b="0"/>
          <a:stretch/>
        </p:blipFill>
        <p:spPr>
          <a:xfrm>
            <a:off x="4495680" y="2666880"/>
            <a:ext cx="4496040" cy="2853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2120" y="181116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 mean error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(Model-Obs)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) * 100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4120" y="18288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 mean bias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odel-Obs)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) *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Good Days &amp; Bad Days 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90720" y="1701720"/>
          <a:ext cx="746748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01720"/>
                    <a:ext cx="746748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2286000" y="152280"/>
            <a:ext cx="4876560" cy="6172200"/>
            <a:chOff x="2286000" y="152280"/>
            <a:chExt cx="4876560" cy="61722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2286000" y="370800"/>
              <a:ext cx="1804320" cy="147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4023360" y="349920"/>
              <a:ext cx="1737720" cy="15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733120" y="152280"/>
              <a:ext cx="43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 Days   (NME min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3"/>
            <a:stretch/>
          </p:blipFill>
          <p:spPr>
            <a:xfrm>
              <a:off x="5873400" y="673560"/>
              <a:ext cx="12891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2286000" y="1845360"/>
              <a:ext cx="1720080" cy="14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4023360" y="1845360"/>
              <a:ext cx="1762200" cy="14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5817600" y="2063880"/>
              <a:ext cx="128916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7"/>
            <a:stretch/>
          </p:blipFill>
          <p:spPr>
            <a:xfrm>
              <a:off x="5817600" y="3538800"/>
              <a:ext cx="12891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8"/>
            <a:stretch/>
          </p:blipFill>
          <p:spPr>
            <a:xfrm>
              <a:off x="4079520" y="3419280"/>
              <a:ext cx="1692000" cy="13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9"/>
            <a:stretch/>
          </p:blipFill>
          <p:spPr>
            <a:xfrm>
              <a:off x="2286000" y="3320280"/>
              <a:ext cx="173736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0"/>
            <a:stretch/>
          </p:blipFill>
          <p:spPr>
            <a:xfrm>
              <a:off x="2341800" y="4846320"/>
              <a:ext cx="1793880" cy="14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4023360" y="4880160"/>
              <a:ext cx="173772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2"/>
            <a:stretch/>
          </p:blipFill>
          <p:spPr>
            <a:xfrm>
              <a:off x="5761440" y="5061600"/>
              <a:ext cx="1369800" cy="109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676520" y="0"/>
            <a:ext cx="5562000" cy="6248160"/>
            <a:chOff x="1676520" y="0"/>
            <a:chExt cx="5562000" cy="624816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676520" y="122400"/>
              <a:ext cx="186912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3655800" y="122400"/>
              <a:ext cx="1815840" cy="14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3"/>
            <a:stretch/>
          </p:blipFill>
          <p:spPr>
            <a:xfrm>
              <a:off x="5668200" y="367560"/>
              <a:ext cx="150480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4"/>
            <a:stretch/>
          </p:blipFill>
          <p:spPr>
            <a:xfrm>
              <a:off x="1676520" y="1592640"/>
              <a:ext cx="196308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5"/>
            <a:stretch/>
          </p:blipFill>
          <p:spPr>
            <a:xfrm>
              <a:off x="3639600" y="1650240"/>
              <a:ext cx="1963080" cy="15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6"/>
            <a:stretch/>
          </p:blipFill>
          <p:spPr>
            <a:xfrm>
              <a:off x="5668200" y="1881000"/>
              <a:ext cx="152136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7"/>
            <a:stretch/>
          </p:blipFill>
          <p:spPr>
            <a:xfrm>
              <a:off x="3639600" y="3185640"/>
              <a:ext cx="189756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8"/>
            <a:stretch/>
          </p:blipFill>
          <p:spPr>
            <a:xfrm>
              <a:off x="1676520" y="3124080"/>
              <a:ext cx="1897560" cy="14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9"/>
            <a:stretch/>
          </p:blipFill>
          <p:spPr>
            <a:xfrm>
              <a:off x="5639400" y="3399840"/>
              <a:ext cx="159912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0"/>
            <a:stretch/>
          </p:blipFill>
          <p:spPr>
            <a:xfrm>
              <a:off x="1676520" y="4699080"/>
              <a:ext cx="1897560" cy="14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1"/>
            <a:stretch/>
          </p:blipFill>
          <p:spPr>
            <a:xfrm>
              <a:off x="3574080" y="4681080"/>
              <a:ext cx="196308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"/>
            <a:stretch/>
          </p:blipFill>
          <p:spPr>
            <a:xfrm>
              <a:off x="5602680" y="4839480"/>
              <a:ext cx="15703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068920" y="0"/>
              <a:ext cx="50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d Days   (NME max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atellite AOD Imputation performed for cloudy days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04920" y="1523880"/>
            <a:ext cx="4419360" cy="4419720"/>
            <a:chOff x="304920" y="1523880"/>
            <a:chExt cx="4419360" cy="44197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rcRect l="0" t="4843" r="0" b="0"/>
            <a:stretch/>
          </p:blipFill>
          <p:spPr>
            <a:xfrm>
              <a:off x="304920" y="1523880"/>
              <a:ext cx="44193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flipV="1">
              <a:off x="702000" y="1673640"/>
              <a:ext cx="3972240" cy="360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724280" y="2057400"/>
            <a:ext cx="42674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cloudy:  (Modis-AOD/Cmaq-AOD)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Ratio for each Land Us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ma distribute Ratio for each L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udy Day: Use distribution to draw Ratio for L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 * Cmaq-AOD = Imputed A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ummary on AOD study for JJA 2001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surface extinction due to particle scattering compares well with the IMPROVE nephelome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MODIS to CMAQ AOD is most of the time a factor of 1 to 10 higher than ratio of MODIS mass concentration to CMAQ P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concentr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difference between MODIS and CMAQ AOD columns is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is found to be a dominant contributor to CMAQ 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AOD patterns reflect synoptic activities very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3a.  MM5 skin temperature evaluation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487692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MM5 GT with MODIS, GOES and aircraft obs. over Houston during TexAQS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:  Jason Ching &amp; Michael Mahoney (NASA/J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914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compare GT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608280" y="911160"/>
            <a:ext cx="52516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11A1 1 km gridded day, night glob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per-pixel temperature in Kelvin with a cross track view-angle dependent algorithm applied to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:  ~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for land use (IGBP) with known emis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7280" y="971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11A1  1km LST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5021280"/>
            <a:ext cx="9144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Footnote: Processing &amp; comparison with GOES &amp; aircraft LST produc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in integerized sinusoidal (ISIN) projection re-sampled to geographic system using MODIS Reprojection Tool v3.3. Environment for Visualization (ENVI v4.2) used for geo-referencing re-sampled data over the Texas domain. A fair correspondence found between 4km aggregated MODIS LST and 4km GOES LST for the hatched domain (GOES warmer by ~ 1.5K to 2.5K during day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98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erra/MODIS land surface temperatur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293840"/>
            <a:ext cx="3240000" cy="3657600"/>
            <a:chOff x="0" y="1293840"/>
            <a:chExt cx="3240000" cy="365760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0" y="1293840"/>
              <a:ext cx="3240000" cy="29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657720" y="4269600"/>
              <a:ext cx="1917360" cy="68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42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1.  Study the impact of fire emissions reallocation using MODIS fire signature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locate NEI using MODIS fire signatures and check its impact on CMAQ using PM2.5 and Total Carbon data from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:    George Pouliot, Alice Gilliland, Tom Pierce, Bill Benjey,  Prakash Bhave,  and Steven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MM5 GT compares with GOES 4km windowed and MODIS 1km native 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447920" y="1981080"/>
            <a:ext cx="5943240" cy="4052880"/>
            <a:chOff x="1447920" y="1981080"/>
            <a:chExt cx="5943240" cy="405288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rcRect l="0" t="18104" r="0" b="7192"/>
            <a:stretch/>
          </p:blipFill>
          <p:spPr>
            <a:xfrm>
              <a:off x="1447920" y="2247480"/>
              <a:ext cx="2215440" cy="16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"/>
            <a:srcRect l="14955" t="18214" r="0" b="8464"/>
            <a:stretch/>
          </p:blipFill>
          <p:spPr>
            <a:xfrm>
              <a:off x="3554640" y="2288880"/>
              <a:ext cx="1945440" cy="16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"/>
            <a:srcRect l="15887" t="20792" r="2856" b="9391"/>
            <a:stretch/>
          </p:blipFill>
          <p:spPr>
            <a:xfrm>
              <a:off x="5446440" y="2338920"/>
              <a:ext cx="1944720" cy="16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"/>
            <a:srcRect l="0" t="18140" r="0" b="8443"/>
            <a:stretch/>
          </p:blipFill>
          <p:spPr>
            <a:xfrm>
              <a:off x="1447920" y="4358520"/>
              <a:ext cx="2269440" cy="16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5"/>
            <a:srcRect l="14291" t="20053" r="0" b="8354"/>
            <a:stretch/>
          </p:blipFill>
          <p:spPr>
            <a:xfrm>
              <a:off x="3554640" y="4367520"/>
              <a:ext cx="1999080" cy="16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6"/>
            <a:srcRect l="15180" t="18285" r="0" b="8595"/>
            <a:stretch/>
          </p:blipFill>
          <p:spPr>
            <a:xfrm>
              <a:off x="5446440" y="4387320"/>
              <a:ext cx="1944720" cy="16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934280" y="1981080"/>
              <a:ext cx="1512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OES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night-time at 4 km windowed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1360" y="2035080"/>
              <a:ext cx="1513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M5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night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62440" y="2035080"/>
              <a:ext cx="1513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IS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night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8280" y="4088160"/>
              <a:ext cx="1513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OES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day-time at 4 km windowed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4038480"/>
              <a:ext cx="1513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M5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day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08440" y="4088160"/>
              <a:ext cx="15123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IS T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day-time at 1 km native over HD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61000" y="2304720"/>
              <a:ext cx="4856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97360" y="2358720"/>
              <a:ext cx="48708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35160" y="2358720"/>
              <a:ext cx="4856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5000" y="4467240"/>
              <a:ext cx="486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51360" y="4467240"/>
              <a:ext cx="486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35160" y="441252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8/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34671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34671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05720" y="358128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55245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53240" y="55245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05720" y="559332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6200" y="2438280"/>
              <a:ext cx="761760" cy="799920"/>
            </a:xfrm>
            <a:custGeom>
              <a:avLst/>
              <a:gdLst/>
              <a:ahLst/>
              <a:rect l="l" t="t" r="r" b="b"/>
              <a:pathLst>
                <a:path w="1248" h="1248">
                  <a:moveTo>
                    <a:pt x="0" y="384"/>
                  </a:moveTo>
                  <a:lnTo>
                    <a:pt x="192" y="384"/>
                  </a:lnTo>
                  <a:lnTo>
                    <a:pt x="240" y="288"/>
                  </a:lnTo>
                  <a:lnTo>
                    <a:pt x="240" y="240"/>
                  </a:lnTo>
                  <a:lnTo>
                    <a:pt x="192" y="240"/>
                  </a:lnTo>
                  <a:lnTo>
                    <a:pt x="192" y="192"/>
                  </a:lnTo>
                  <a:lnTo>
                    <a:pt x="192" y="144"/>
                  </a:lnTo>
                  <a:lnTo>
                    <a:pt x="288" y="240"/>
                  </a:lnTo>
                  <a:lnTo>
                    <a:pt x="336" y="288"/>
                  </a:lnTo>
                  <a:lnTo>
                    <a:pt x="384" y="240"/>
                  </a:lnTo>
                  <a:lnTo>
                    <a:pt x="432" y="288"/>
                  </a:lnTo>
                  <a:lnTo>
                    <a:pt x="480" y="240"/>
                  </a:lnTo>
                  <a:lnTo>
                    <a:pt x="528" y="240"/>
                  </a:lnTo>
                  <a:lnTo>
                    <a:pt x="624" y="240"/>
                  </a:lnTo>
                  <a:lnTo>
                    <a:pt x="672" y="240"/>
                  </a:lnTo>
                  <a:lnTo>
                    <a:pt x="672" y="144"/>
                  </a:lnTo>
                  <a:lnTo>
                    <a:pt x="720" y="0"/>
                  </a:lnTo>
                  <a:lnTo>
                    <a:pt x="768" y="0"/>
                  </a:lnTo>
                  <a:lnTo>
                    <a:pt x="816" y="48"/>
                  </a:lnTo>
                  <a:lnTo>
                    <a:pt x="816" y="144"/>
                  </a:lnTo>
                  <a:lnTo>
                    <a:pt x="720" y="144"/>
                  </a:lnTo>
                  <a:lnTo>
                    <a:pt x="720" y="336"/>
                  </a:lnTo>
                  <a:lnTo>
                    <a:pt x="720" y="432"/>
                  </a:lnTo>
                  <a:lnTo>
                    <a:pt x="768" y="480"/>
                  </a:lnTo>
                  <a:lnTo>
                    <a:pt x="720" y="432"/>
                  </a:lnTo>
                  <a:lnTo>
                    <a:pt x="720" y="528"/>
                  </a:lnTo>
                  <a:lnTo>
                    <a:pt x="816" y="624"/>
                  </a:lnTo>
                  <a:lnTo>
                    <a:pt x="864" y="624"/>
                  </a:lnTo>
                  <a:lnTo>
                    <a:pt x="912" y="576"/>
                  </a:lnTo>
                  <a:lnTo>
                    <a:pt x="912" y="624"/>
                  </a:lnTo>
                  <a:lnTo>
                    <a:pt x="1008" y="720"/>
                  </a:lnTo>
                  <a:lnTo>
                    <a:pt x="1104" y="672"/>
                  </a:lnTo>
                  <a:lnTo>
                    <a:pt x="1152" y="720"/>
                  </a:lnTo>
                  <a:lnTo>
                    <a:pt x="1248" y="672"/>
                  </a:lnTo>
                  <a:lnTo>
                    <a:pt x="1248" y="816"/>
                  </a:lnTo>
                  <a:lnTo>
                    <a:pt x="1200" y="864"/>
                  </a:lnTo>
                  <a:lnTo>
                    <a:pt x="1152" y="816"/>
                  </a:lnTo>
                  <a:lnTo>
                    <a:pt x="1152" y="960"/>
                  </a:lnTo>
                  <a:lnTo>
                    <a:pt x="1056" y="912"/>
                  </a:lnTo>
                  <a:lnTo>
                    <a:pt x="1104" y="1008"/>
                  </a:lnTo>
                  <a:lnTo>
                    <a:pt x="1152" y="1056"/>
                  </a:lnTo>
                  <a:lnTo>
                    <a:pt x="1152" y="1152"/>
                  </a:lnTo>
                  <a:lnTo>
                    <a:pt x="1056" y="1152"/>
                  </a:lnTo>
                  <a:lnTo>
                    <a:pt x="960" y="1152"/>
                  </a:lnTo>
                  <a:lnTo>
                    <a:pt x="960" y="1248"/>
                  </a:lnTo>
                  <a:lnTo>
                    <a:pt x="912" y="1248"/>
                  </a:lnTo>
                  <a:lnTo>
                    <a:pt x="864" y="1200"/>
                  </a:lnTo>
                  <a:lnTo>
                    <a:pt x="864" y="1152"/>
                  </a:lnTo>
                  <a:lnTo>
                    <a:pt x="816" y="1200"/>
                  </a:lnTo>
                  <a:lnTo>
                    <a:pt x="720" y="1200"/>
                  </a:lnTo>
                  <a:lnTo>
                    <a:pt x="624" y="1152"/>
                  </a:lnTo>
                  <a:lnTo>
                    <a:pt x="624" y="1104"/>
                  </a:lnTo>
                  <a:lnTo>
                    <a:pt x="528" y="1104"/>
                  </a:lnTo>
                  <a:lnTo>
                    <a:pt x="624" y="1056"/>
                  </a:lnTo>
                  <a:lnTo>
                    <a:pt x="624" y="960"/>
                  </a:lnTo>
                  <a:lnTo>
                    <a:pt x="528" y="960"/>
                  </a:lnTo>
                  <a:lnTo>
                    <a:pt x="528" y="1008"/>
                  </a:lnTo>
                  <a:lnTo>
                    <a:pt x="432" y="1008"/>
                  </a:lnTo>
                  <a:lnTo>
                    <a:pt x="432" y="960"/>
                  </a:lnTo>
                  <a:lnTo>
                    <a:pt x="432" y="912"/>
                  </a:lnTo>
                  <a:lnTo>
                    <a:pt x="384" y="960"/>
                  </a:lnTo>
                  <a:lnTo>
                    <a:pt x="384" y="1056"/>
                  </a:lnTo>
                  <a:lnTo>
                    <a:pt x="336" y="1056"/>
                  </a:lnTo>
                  <a:lnTo>
                    <a:pt x="240" y="1056"/>
                  </a:lnTo>
                  <a:lnTo>
                    <a:pt x="144" y="1056"/>
                  </a:lnTo>
                  <a:lnTo>
                    <a:pt x="144" y="1008"/>
                  </a:lnTo>
                  <a:lnTo>
                    <a:pt x="96" y="912"/>
                  </a:lnTo>
                  <a:lnTo>
                    <a:pt x="96" y="864"/>
                  </a:lnTo>
                  <a:lnTo>
                    <a:pt x="96" y="816"/>
                  </a:lnTo>
                  <a:lnTo>
                    <a:pt x="96" y="720"/>
                  </a:lnTo>
                  <a:lnTo>
                    <a:pt x="48" y="720"/>
                  </a:lnTo>
                  <a:lnTo>
                    <a:pt x="0" y="672"/>
                  </a:lnTo>
                  <a:lnTo>
                    <a:pt x="96" y="672"/>
                  </a:lnTo>
                  <a:lnTo>
                    <a:pt x="96" y="624"/>
                  </a:lnTo>
                  <a:cubicBezTo>
                    <a:pt x="45" y="603"/>
                    <a:pt x="39" y="607"/>
                    <a:pt x="84" y="607"/>
                  </a:cubicBezTo>
                  <a:lnTo>
                    <a:pt x="96" y="528"/>
                  </a:lnTo>
                  <a:lnTo>
                    <a:pt x="48" y="528"/>
                  </a:lnTo>
                  <a:lnTo>
                    <a:pt x="48" y="48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86200" y="4496040"/>
              <a:ext cx="761760" cy="799920"/>
            </a:xfrm>
            <a:custGeom>
              <a:avLst/>
              <a:gdLst/>
              <a:ahLst/>
              <a:rect l="l" t="t" r="r" b="b"/>
              <a:pathLst>
                <a:path w="1248" h="1248">
                  <a:moveTo>
                    <a:pt x="0" y="384"/>
                  </a:moveTo>
                  <a:lnTo>
                    <a:pt x="192" y="384"/>
                  </a:lnTo>
                  <a:lnTo>
                    <a:pt x="240" y="288"/>
                  </a:lnTo>
                  <a:lnTo>
                    <a:pt x="240" y="240"/>
                  </a:lnTo>
                  <a:lnTo>
                    <a:pt x="192" y="240"/>
                  </a:lnTo>
                  <a:lnTo>
                    <a:pt x="192" y="192"/>
                  </a:lnTo>
                  <a:lnTo>
                    <a:pt x="192" y="144"/>
                  </a:lnTo>
                  <a:lnTo>
                    <a:pt x="288" y="240"/>
                  </a:lnTo>
                  <a:lnTo>
                    <a:pt x="336" y="288"/>
                  </a:lnTo>
                  <a:lnTo>
                    <a:pt x="384" y="240"/>
                  </a:lnTo>
                  <a:lnTo>
                    <a:pt x="432" y="288"/>
                  </a:lnTo>
                  <a:lnTo>
                    <a:pt x="480" y="240"/>
                  </a:lnTo>
                  <a:lnTo>
                    <a:pt x="528" y="240"/>
                  </a:lnTo>
                  <a:lnTo>
                    <a:pt x="624" y="240"/>
                  </a:lnTo>
                  <a:lnTo>
                    <a:pt x="672" y="240"/>
                  </a:lnTo>
                  <a:lnTo>
                    <a:pt x="672" y="144"/>
                  </a:lnTo>
                  <a:lnTo>
                    <a:pt x="720" y="0"/>
                  </a:lnTo>
                  <a:lnTo>
                    <a:pt x="768" y="0"/>
                  </a:lnTo>
                  <a:lnTo>
                    <a:pt x="816" y="48"/>
                  </a:lnTo>
                  <a:lnTo>
                    <a:pt x="816" y="144"/>
                  </a:lnTo>
                  <a:lnTo>
                    <a:pt x="720" y="144"/>
                  </a:lnTo>
                  <a:lnTo>
                    <a:pt x="720" y="336"/>
                  </a:lnTo>
                  <a:lnTo>
                    <a:pt x="720" y="432"/>
                  </a:lnTo>
                  <a:lnTo>
                    <a:pt x="768" y="480"/>
                  </a:lnTo>
                  <a:lnTo>
                    <a:pt x="720" y="432"/>
                  </a:lnTo>
                  <a:lnTo>
                    <a:pt x="720" y="528"/>
                  </a:lnTo>
                  <a:lnTo>
                    <a:pt x="816" y="624"/>
                  </a:lnTo>
                  <a:lnTo>
                    <a:pt x="864" y="624"/>
                  </a:lnTo>
                  <a:lnTo>
                    <a:pt x="912" y="576"/>
                  </a:lnTo>
                  <a:lnTo>
                    <a:pt x="912" y="624"/>
                  </a:lnTo>
                  <a:lnTo>
                    <a:pt x="1008" y="720"/>
                  </a:lnTo>
                  <a:lnTo>
                    <a:pt x="1104" y="672"/>
                  </a:lnTo>
                  <a:lnTo>
                    <a:pt x="1152" y="720"/>
                  </a:lnTo>
                  <a:lnTo>
                    <a:pt x="1248" y="672"/>
                  </a:lnTo>
                  <a:lnTo>
                    <a:pt x="1248" y="816"/>
                  </a:lnTo>
                  <a:lnTo>
                    <a:pt x="1200" y="864"/>
                  </a:lnTo>
                  <a:lnTo>
                    <a:pt x="1152" y="816"/>
                  </a:lnTo>
                  <a:lnTo>
                    <a:pt x="1152" y="960"/>
                  </a:lnTo>
                  <a:lnTo>
                    <a:pt x="1056" y="912"/>
                  </a:lnTo>
                  <a:lnTo>
                    <a:pt x="1104" y="1008"/>
                  </a:lnTo>
                  <a:lnTo>
                    <a:pt x="1152" y="1056"/>
                  </a:lnTo>
                  <a:lnTo>
                    <a:pt x="1152" y="1152"/>
                  </a:lnTo>
                  <a:lnTo>
                    <a:pt x="1056" y="1152"/>
                  </a:lnTo>
                  <a:lnTo>
                    <a:pt x="960" y="1152"/>
                  </a:lnTo>
                  <a:lnTo>
                    <a:pt x="960" y="1248"/>
                  </a:lnTo>
                  <a:lnTo>
                    <a:pt x="912" y="1248"/>
                  </a:lnTo>
                  <a:lnTo>
                    <a:pt x="864" y="1200"/>
                  </a:lnTo>
                  <a:lnTo>
                    <a:pt x="864" y="1152"/>
                  </a:lnTo>
                  <a:lnTo>
                    <a:pt x="816" y="1200"/>
                  </a:lnTo>
                  <a:lnTo>
                    <a:pt x="720" y="1200"/>
                  </a:lnTo>
                  <a:lnTo>
                    <a:pt x="624" y="1152"/>
                  </a:lnTo>
                  <a:lnTo>
                    <a:pt x="624" y="1104"/>
                  </a:lnTo>
                  <a:lnTo>
                    <a:pt x="528" y="1104"/>
                  </a:lnTo>
                  <a:lnTo>
                    <a:pt x="624" y="1056"/>
                  </a:lnTo>
                  <a:lnTo>
                    <a:pt x="624" y="960"/>
                  </a:lnTo>
                  <a:lnTo>
                    <a:pt x="528" y="960"/>
                  </a:lnTo>
                  <a:lnTo>
                    <a:pt x="528" y="1008"/>
                  </a:lnTo>
                  <a:lnTo>
                    <a:pt x="432" y="1008"/>
                  </a:lnTo>
                  <a:lnTo>
                    <a:pt x="432" y="960"/>
                  </a:lnTo>
                  <a:lnTo>
                    <a:pt x="432" y="912"/>
                  </a:lnTo>
                  <a:lnTo>
                    <a:pt x="384" y="960"/>
                  </a:lnTo>
                  <a:lnTo>
                    <a:pt x="384" y="1056"/>
                  </a:lnTo>
                  <a:lnTo>
                    <a:pt x="336" y="1056"/>
                  </a:lnTo>
                  <a:lnTo>
                    <a:pt x="240" y="1056"/>
                  </a:lnTo>
                  <a:lnTo>
                    <a:pt x="144" y="1056"/>
                  </a:lnTo>
                  <a:lnTo>
                    <a:pt x="144" y="1008"/>
                  </a:lnTo>
                  <a:lnTo>
                    <a:pt x="96" y="912"/>
                  </a:lnTo>
                  <a:lnTo>
                    <a:pt x="96" y="864"/>
                  </a:lnTo>
                  <a:lnTo>
                    <a:pt x="96" y="816"/>
                  </a:lnTo>
                  <a:lnTo>
                    <a:pt x="96" y="720"/>
                  </a:lnTo>
                  <a:lnTo>
                    <a:pt x="48" y="720"/>
                  </a:lnTo>
                  <a:lnTo>
                    <a:pt x="0" y="672"/>
                  </a:lnTo>
                  <a:lnTo>
                    <a:pt x="96" y="672"/>
                  </a:lnTo>
                  <a:lnTo>
                    <a:pt x="96" y="624"/>
                  </a:lnTo>
                  <a:cubicBezTo>
                    <a:pt x="45" y="603"/>
                    <a:pt x="39" y="607"/>
                    <a:pt x="84" y="607"/>
                  </a:cubicBezTo>
                  <a:lnTo>
                    <a:pt x="96" y="528"/>
                  </a:lnTo>
                  <a:lnTo>
                    <a:pt x="48" y="528"/>
                  </a:lnTo>
                  <a:lnTo>
                    <a:pt x="48" y="48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81640" y="415296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82520" y="914400"/>
            <a:ext cx="5486400" cy="3962160"/>
            <a:chOff x="182520" y="914400"/>
            <a:chExt cx="5486400" cy="3962160"/>
          </a:xfrm>
        </p:grpSpPr>
        <p:grpSp>
          <p:nvGrpSpPr>
            <p:cNvPr id="394" name=""/>
            <p:cNvGrpSpPr/>
            <p:nvPr/>
          </p:nvGrpSpPr>
          <p:grpSpPr>
            <a:xfrm>
              <a:off x="3043080" y="2081520"/>
              <a:ext cx="2625840" cy="2743920"/>
              <a:chOff x="3043080" y="2081520"/>
              <a:chExt cx="2625840" cy="2743920"/>
            </a:xfrm>
          </p:grpSpPr>
          <p:sp>
            <p:nvSpPr>
              <p:cNvPr id="395" name=""/>
              <p:cNvSpPr/>
              <p:nvPr/>
            </p:nvSpPr>
            <p:spPr>
              <a:xfrm>
                <a:off x="3043080" y="2081520"/>
                <a:ext cx="2625840" cy="274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51880" y="3657600"/>
                <a:ext cx="1225080" cy="1167480"/>
              </a:xfrm>
              <a:custGeom>
                <a:avLst/>
                <a:gdLst/>
                <a:ahLst/>
                <a:rect l="l" t="t" r="r" b="b"/>
                <a:pathLst>
                  <a:path w="1008" h="960">
                    <a:moveTo>
                      <a:pt x="0" y="0"/>
                    </a:moveTo>
                    <a:cubicBezTo>
                      <a:pt x="360" y="292"/>
                      <a:pt x="720" y="584"/>
                      <a:pt x="864" y="720"/>
                    </a:cubicBezTo>
                    <a:cubicBezTo>
                      <a:pt x="1008" y="856"/>
                      <a:pt x="864" y="776"/>
                      <a:pt x="864" y="816"/>
                    </a:cubicBezTo>
                    <a:cubicBezTo>
                      <a:pt x="864" y="856"/>
                      <a:pt x="872" y="936"/>
                      <a:pt x="864" y="9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43080" y="2139840"/>
                <a:ext cx="1497600" cy="1692720"/>
              </a:xfrm>
              <a:custGeom>
                <a:avLst/>
                <a:gdLst/>
                <a:ahLst/>
                <a:rect l="l" t="t" r="r" b="b"/>
                <a:pathLst>
                  <a:path w="1232" h="1392">
                    <a:moveTo>
                      <a:pt x="1056" y="0"/>
                    </a:moveTo>
                    <a:cubicBezTo>
                      <a:pt x="1056" y="416"/>
                      <a:pt x="1056" y="832"/>
                      <a:pt x="1056" y="1008"/>
                    </a:cubicBezTo>
                    <a:cubicBezTo>
                      <a:pt x="1056" y="1184"/>
                      <a:pt x="1232" y="992"/>
                      <a:pt x="1056" y="1056"/>
                    </a:cubicBezTo>
                    <a:cubicBezTo>
                      <a:pt x="880" y="1120"/>
                      <a:pt x="440" y="125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43480" y="2081520"/>
                <a:ext cx="1225080" cy="1809720"/>
              </a:xfrm>
              <a:custGeom>
                <a:avLst/>
                <a:gdLst/>
                <a:ahLst/>
                <a:rect l="l" t="t" r="r" b="b"/>
                <a:pathLst>
                  <a:path w="1008" h="1488">
                    <a:moveTo>
                      <a:pt x="0" y="0"/>
                    </a:moveTo>
                    <a:cubicBezTo>
                      <a:pt x="60" y="284"/>
                      <a:pt x="120" y="568"/>
                      <a:pt x="288" y="816"/>
                    </a:cubicBezTo>
                    <a:cubicBezTo>
                      <a:pt x="456" y="1064"/>
                      <a:pt x="732" y="1276"/>
                      <a:pt x="1008" y="14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76360" y="237348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3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18040" y="278172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35080" y="231480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6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93400" y="284040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51320" y="389124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334680" y="4299840"/>
                <a:ext cx="8168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82520" y="2132280"/>
              <a:ext cx="2625840" cy="2744280"/>
              <a:chOff x="182520" y="2132280"/>
              <a:chExt cx="2625840" cy="2744280"/>
            </a:xfrm>
          </p:grpSpPr>
          <p:sp>
            <p:nvSpPr>
              <p:cNvPr id="406" name=""/>
              <p:cNvSpPr/>
              <p:nvPr/>
            </p:nvSpPr>
            <p:spPr>
              <a:xfrm>
                <a:off x="182520" y="2132280"/>
                <a:ext cx="2625840" cy="274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91320" y="3708720"/>
                <a:ext cx="1225080" cy="1167840"/>
              </a:xfrm>
              <a:custGeom>
                <a:avLst/>
                <a:gdLst/>
                <a:ahLst/>
                <a:rect l="l" t="t" r="r" b="b"/>
                <a:pathLst>
                  <a:path w="1008" h="960">
                    <a:moveTo>
                      <a:pt x="0" y="0"/>
                    </a:moveTo>
                    <a:cubicBezTo>
                      <a:pt x="360" y="292"/>
                      <a:pt x="720" y="584"/>
                      <a:pt x="864" y="720"/>
                    </a:cubicBezTo>
                    <a:cubicBezTo>
                      <a:pt x="1008" y="856"/>
                      <a:pt x="864" y="776"/>
                      <a:pt x="864" y="816"/>
                    </a:cubicBezTo>
                    <a:cubicBezTo>
                      <a:pt x="864" y="856"/>
                      <a:pt x="872" y="936"/>
                      <a:pt x="864" y="9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2520" y="2190600"/>
                <a:ext cx="1497600" cy="1693080"/>
              </a:xfrm>
              <a:custGeom>
                <a:avLst/>
                <a:gdLst/>
                <a:ahLst/>
                <a:rect l="l" t="t" r="r" b="b"/>
                <a:pathLst>
                  <a:path w="1232" h="1392">
                    <a:moveTo>
                      <a:pt x="1056" y="0"/>
                    </a:moveTo>
                    <a:cubicBezTo>
                      <a:pt x="1056" y="416"/>
                      <a:pt x="1056" y="832"/>
                      <a:pt x="1056" y="1008"/>
                    </a:cubicBezTo>
                    <a:cubicBezTo>
                      <a:pt x="1056" y="1184"/>
                      <a:pt x="1232" y="992"/>
                      <a:pt x="1056" y="1056"/>
                    </a:cubicBezTo>
                    <a:cubicBezTo>
                      <a:pt x="880" y="1120"/>
                      <a:pt x="440" y="125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82920" y="2132280"/>
                <a:ext cx="1225080" cy="1810080"/>
              </a:xfrm>
              <a:custGeom>
                <a:avLst/>
                <a:gdLst/>
                <a:ahLst/>
                <a:rect l="l" t="t" r="r" b="b"/>
                <a:pathLst>
                  <a:path w="1008" h="1488">
                    <a:moveTo>
                      <a:pt x="0" y="0"/>
                    </a:moveTo>
                    <a:cubicBezTo>
                      <a:pt x="60" y="284"/>
                      <a:pt x="120" y="568"/>
                      <a:pt x="288" y="816"/>
                    </a:cubicBezTo>
                    <a:cubicBezTo>
                      <a:pt x="456" y="1064"/>
                      <a:pt x="732" y="1276"/>
                      <a:pt x="1008" y="14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15800" y="242424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≈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57480" y="283284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0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74520" y="23655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32840" y="28911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≈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0760" y="39423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4120" y="4350960"/>
                <a:ext cx="8168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0560" rIns="7056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648720" y="1672920"/>
              <a:ext cx="16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7240" y="1731960"/>
              <a:ext cx="16351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57680" y="914400"/>
              <a:ext cx="426024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S – Model (MM5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ODIS-GOES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(1, 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1920" y="2134080"/>
              <a:ext cx="5497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97320" y="4416480"/>
              <a:ext cx="489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6200" y="2081520"/>
              <a:ext cx="49356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54320" y="2134080"/>
              <a:ext cx="5515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35760" y="2134080"/>
              <a:ext cx="493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25560" y="4419720"/>
              <a:ext cx="4910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2520" y="4572360"/>
              <a:ext cx="4572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8360" y="4572360"/>
              <a:ext cx="4561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048120" cy="2392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28600" y="2133720"/>
            <a:ext cx="1308240" cy="1536480"/>
          </a:xfrm>
          <a:custGeom>
            <a:avLst/>
            <a:gdLst/>
            <a:ahLst/>
            <a:rect l="l" t="t" r="r" b="b"/>
            <a:pathLst>
              <a:path w="824" h="968">
                <a:moveTo>
                  <a:pt x="0" y="912"/>
                </a:moveTo>
                <a:cubicBezTo>
                  <a:pt x="308" y="940"/>
                  <a:pt x="616" y="968"/>
                  <a:pt x="720" y="816"/>
                </a:cubicBezTo>
                <a:cubicBezTo>
                  <a:pt x="824" y="664"/>
                  <a:pt x="724" y="332"/>
                  <a:pt x="624" y="0"/>
                </a:cubicBezTo>
              </a:path>
            </a:pathLst>
          </a:custGeom>
          <a:noFill/>
          <a:ln w="414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11480" y="2057400"/>
            <a:ext cx="1308240" cy="1536840"/>
          </a:xfrm>
          <a:custGeom>
            <a:avLst/>
            <a:gdLst/>
            <a:ahLst/>
            <a:rect l="l" t="t" r="r" b="b"/>
            <a:pathLst>
              <a:path w="824" h="968">
                <a:moveTo>
                  <a:pt x="0" y="912"/>
                </a:moveTo>
                <a:cubicBezTo>
                  <a:pt x="308" y="940"/>
                  <a:pt x="616" y="968"/>
                  <a:pt x="720" y="816"/>
                </a:cubicBezTo>
                <a:cubicBezTo>
                  <a:pt x="824" y="664"/>
                  <a:pt x="724" y="332"/>
                  <a:pt x="624" y="0"/>
                </a:cubicBezTo>
              </a:path>
            </a:pathLst>
          </a:custGeom>
          <a:noFill/>
          <a:ln w="414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3809880" y="335232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548640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P data-rich z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eavy built-up are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2971800"/>
            <a:ext cx="685800" cy="762120"/>
          </a:xfrm>
          <a:custGeom>
            <a:avLst/>
            <a:gdLst/>
            <a:ahLst/>
            <a:rect l="l" t="t" r="r" b="b"/>
            <a:pathLst>
              <a:path w="824" h="968">
                <a:moveTo>
                  <a:pt x="0" y="912"/>
                </a:moveTo>
                <a:cubicBezTo>
                  <a:pt x="308" y="940"/>
                  <a:pt x="616" y="968"/>
                  <a:pt x="720" y="816"/>
                </a:cubicBezTo>
                <a:cubicBezTo>
                  <a:pt x="824" y="664"/>
                  <a:pt x="724" y="332"/>
                  <a:pt x="624" y="0"/>
                </a:cubicBezTo>
              </a:path>
            </a:pathLst>
          </a:custGeom>
          <a:noFill/>
          <a:ln w="414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ector-wise difference in thermal property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257800" y="3581280"/>
            <a:ext cx="182880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1142640" y="3276720"/>
            <a:ext cx="2971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kin temperatures from MODIS provides a diagnostic indicator of model perform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130824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id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rphology database region: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Urbaniz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odel predicts urban heat island successfully; i.e., model bias is small in urban sector when compared to MOD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anda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M5 using Roughness  approach produces poor description of the Houston heat island. Model bias is high in urban 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sid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rphology database reg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predictions of skin temperatures are problematic; an avenue to explore is the possibility of inaccurate land use specific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UCP extrapolation methodology, reexamination of designation of land use in mesoscale models and their physical properties are nee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simulation days, and nighttime results exhibit similar featur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09480" y="11430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mprovement of fire emissions inventory using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study impact of wildfire emissions reallocations on CM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predicted CO columns with MOP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use MODIS fire count information and ground observations record for creating 2005 fire emissions for 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Compare CMAQ optical depth with MODIS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compare CMAQ w/AERONET, MODIS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- develop PM2.5-AOD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Evaluation of MM5 ground temperatur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are with aircraft, GOES, and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inter-relate skin temperature errors with PBL heigh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3b.  Relate skin temperature error and PBL heigh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502920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 inter-relation between skin temperature and PBL height error using EMD/H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Block avg T, PBL Height &amp; Spectra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rcRect l="0" t="0" r="18520" b="5555"/>
          <a:stretch/>
        </p:blipFill>
        <p:spPr>
          <a:xfrm>
            <a:off x="2743200" y="1981080"/>
            <a:ext cx="2514600" cy="3886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rcRect l="0" t="0" r="0" b="19673"/>
          <a:stretch/>
        </p:blipFill>
        <p:spPr>
          <a:xfrm>
            <a:off x="5943600" y="990720"/>
            <a:ext cx="2703600" cy="2895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rcRect l="0" t="0" r="0" b="18921"/>
          <a:stretch/>
        </p:blipFill>
        <p:spPr>
          <a:xfrm>
            <a:off x="5943600" y="39625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3520" y="14479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718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PBL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8380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TFE  Spectra 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3809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TFE  Spectra -PBL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1905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imann 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743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M5 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05720" y="6095880"/>
            <a:ext cx="1904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--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38680" y="18288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160020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66688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457200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5486400"/>
            <a:ext cx="91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48769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57913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rcRect l="0" t="0" r="0" b="45717"/>
          <a:stretch/>
        </p:blipFill>
        <p:spPr>
          <a:xfrm>
            <a:off x="304920" y="1371600"/>
            <a:ext cx="4457520" cy="3429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rcRect l="0" t="0" r="0" b="53524"/>
          <a:stretch/>
        </p:blipFill>
        <p:spPr>
          <a:xfrm>
            <a:off x="4572000" y="13716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304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Hilbert Spectra to ascertain Tskin-Mixing Ht.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2320" y="4876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Handtooled BT"/>
              </a:rPr>
              <a:t>Treating skin temperature &amp; PBL height error (obs. Minus model) series as being non-sta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12952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MTP PBL Height minus MM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838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Heimann Skin Temp. minus MM5 Skin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2860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Publications from CMAQ related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 Fire emissions using MODIS – 1 pub. In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ocation-First Author); 1 pub. In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Int. J. Appl. Rem. Se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(with Pouliot) (Second auth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of CMAQ AOD using Semi-Empirical method – 1 pub. (First Author) in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JGR-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of MM5 skin temp. using MODIS &amp; GOES – 2 pubs.-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Env. Model. Software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Rem. Sens. Enviro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First author in bo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of CMAQ Carbon Monoxide columns – 1 pub. (with Jim Szykman &amp; LaRC team)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phys. Res. Let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ird auth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AQ AOD spatial variability and connection with surface PM2.5 – 1 pub.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phys. Res. Let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Reff &amp; E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2578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oudyHandtooled BT"/>
              </a:rPr>
              <a:t>Published </a:t>
            </a:r>
            <a:r>
              <a:rPr b="1" lang="en-US" sz="2000" spc="-1" strike="noStrike">
                <a:solidFill>
                  <a:srgbClr val="000000"/>
                </a:solidFill>
                <a:latin typeface="GoudyHandtooled BT"/>
              </a:rPr>
              <a:t>        </a:t>
            </a:r>
            <a:r>
              <a:rPr b="1" lang="en-US" sz="2000" spc="-1" strike="noStrike">
                <a:solidFill>
                  <a:srgbClr val="ff6600"/>
                </a:solidFill>
                <a:latin typeface="GoudyHandtooled BT"/>
              </a:rPr>
              <a:t>Being Prepared</a:t>
            </a:r>
            <a:r>
              <a:rPr b="1" lang="en-US" sz="2000" spc="-1" strike="noStrike">
                <a:solidFill>
                  <a:srgbClr val="000000"/>
                </a:solidFill>
                <a:latin typeface="GoudyHandtooled BT"/>
              </a:rPr>
              <a:t>         </a:t>
            </a:r>
            <a:r>
              <a:rPr b="1" lang="en-US" sz="2000" spc="-1" strike="noStrike">
                <a:solidFill>
                  <a:srgbClr val="0066ff"/>
                </a:solidFill>
                <a:latin typeface="GoudyHandtooled BT"/>
              </a:rPr>
              <a:t>Ready fo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520" y="2514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Thank you</a:t>
            </a:r>
            <a:br>
              <a:rPr sz="4800"/>
            </a:br>
            <a:br>
              <a:rPr sz="4800"/>
            </a:br>
            <a:r>
              <a:rPr b="1" i="1" lang="en-US" sz="4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oy.Dev@EPA.gov</a:t>
            </a:r>
            <a:br>
              <a:rPr sz="4800"/>
            </a:br>
            <a:r>
              <a:rPr b="1" i="1" lang="en-US" sz="4800" spc="-1" strike="noStrike" u="sng">
                <a:solidFill>
                  <a:srgbClr val="ff9900"/>
                </a:solidFill>
                <a:uFillTx/>
                <a:latin typeface="Arial"/>
              </a:rPr>
              <a:t>(919) 541-5338</a:t>
            </a:r>
            <a:br>
              <a:rPr sz="4800"/>
            </a:br>
            <a:r>
              <a:rPr b="1" i="1" lang="en-US" sz="4800" spc="-1" strike="noStrike" u="sng">
                <a:solidFill>
                  <a:srgbClr val="ff9900"/>
                </a:solidFill>
                <a:uFillTx/>
                <a:latin typeface="Arial"/>
              </a:rPr>
              <a:t>till October 31, 2007</a:t>
            </a:r>
            <a:endParaRPr b="1" i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143000"/>
            <a:ext cx="7848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S Fire-pixel counts were gridded into respective CMAQ grid ce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 of the NEI monthly prescribed burns and wildfire emissions for each state-month are distributed in space and time using the MODIS fire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’s monthly emissions in the NEI w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ied by fraction of pixel 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grid cell over the monthly count for the state and by the fraction of each grid cell in that particula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tially reallocated emissions w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 temporally using the ratio of the pixel count per day and pixel count per mo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teps taken for “emissions reallocati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9092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MAQ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371600"/>
            <a:ext cx="8686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MM5-CMA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Pre-release version of CMAQ 4.4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mulations using CB-IV chemical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al Aerosol Model and ISORROPIA thermodynamic equilibrium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emical BC’s for CMAQ based on GEOS-C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eorological inputs  from MM5, 34 vertical layers collapsed to 14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36 km x 36 km horizontal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2209680" cy="1611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220968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86000" y="2590920"/>
            <a:ext cx="2286000" cy="163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2590920"/>
            <a:ext cx="2286000" cy="163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13716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066680"/>
            <a:ext cx="3049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048120"/>
            <a:ext cx="304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28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7910"/>
                </a:solidFill>
                <a:latin typeface="Times New Roman"/>
              </a:rPr>
              <a:t>MODIS RR fire pixel cou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286000"/>
            <a:ext cx="670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Reallocated minus base case PM</a:t>
            </a:r>
            <a:r>
              <a:rPr b="1" lang="en-US" sz="1600" spc="-1" strike="noStrike" baseline="-25000">
                <a:solidFill>
                  <a:srgbClr val="ff6600"/>
                </a:solidFill>
                <a:latin typeface="Times New Roman"/>
              </a:rPr>
              <a:t>2.5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 emission rates in g s</a:t>
            </a:r>
            <a:r>
              <a:rPr b="1" lang="en-US" sz="1600" spc="-1" strike="noStrike" baseline="30000">
                <a:solidFill>
                  <a:srgbClr val="ff6600"/>
                </a:solidFill>
                <a:latin typeface="Times New Roman"/>
              </a:rPr>
              <a:t>-1 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 &amp; OC+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0" y="4194000"/>
            <a:ext cx="241632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898880" y="4191120"/>
            <a:ext cx="241632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12079" r="0" b="0"/>
          <a:stretch/>
        </p:blipFill>
        <p:spPr>
          <a:xfrm>
            <a:off x="4622760" y="488880"/>
            <a:ext cx="1550880" cy="1270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898" r="0" b="0"/>
          <a:stretch/>
        </p:blipFill>
        <p:spPr>
          <a:xfrm>
            <a:off x="4621320" y="1770120"/>
            <a:ext cx="1592280" cy="126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6680" y="3100320"/>
            <a:ext cx="1596960" cy="128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581360" y="4429080"/>
            <a:ext cx="1501920" cy="1244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58080" y="1720800"/>
            <a:ext cx="1460160" cy="15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058080" y="3100320"/>
            <a:ext cx="1460160" cy="149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058080" y="4429080"/>
            <a:ext cx="1460160" cy="151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6257880" y="1868040"/>
            <a:ext cx="1130400" cy="102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257880" y="3247560"/>
            <a:ext cx="1130400" cy="101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257880" y="4571640"/>
            <a:ext cx="114300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6480" y="3241800"/>
            <a:ext cx="596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62800" y="4576680"/>
            <a:ext cx="5652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6480" y="1917720"/>
            <a:ext cx="596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67760" y="81288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05560" y="2197080"/>
            <a:ext cx="12049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lloc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18520" y="3473280"/>
            <a:ext cx="955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31120" y="4805280"/>
            <a:ext cx="1179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 (Realloc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60960" y="380880"/>
            <a:ext cx="1428840" cy="1490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6334200" y="498600"/>
            <a:ext cx="1036440" cy="102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62800" y="498600"/>
            <a:ext cx="581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=0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457200"/>
            <a:ext cx="3962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Monthly average spatial plot of CMAQ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tal carbon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 before and after emissions reallocation for May and August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9440" y="1687680"/>
            <a:ext cx="1758960" cy="173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19289" r="0" b="6768"/>
          <a:stretch/>
        </p:blipFill>
        <p:spPr>
          <a:xfrm>
            <a:off x="4897440" y="4724280"/>
            <a:ext cx="2147760" cy="1408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15801" r="0" b="8361"/>
          <a:stretch/>
        </p:blipFill>
        <p:spPr>
          <a:xfrm>
            <a:off x="4897440" y="1687680"/>
            <a:ext cx="2147760" cy="14698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686560" y="708120"/>
            <a:ext cx="390240" cy="304560"/>
            <a:chOff x="5686560" y="708120"/>
            <a:chExt cx="390240" cy="304560"/>
          </a:xfrm>
        </p:grpSpPr>
        <p:sp>
          <p:nvSpPr>
            <p:cNvPr id="143" name=""/>
            <p:cNvSpPr/>
            <p:nvPr/>
          </p:nvSpPr>
          <p:spPr>
            <a:xfrm>
              <a:off x="5686560" y="708120"/>
              <a:ext cx="390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86560" y="708120"/>
              <a:ext cx="39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6560" y="1012680"/>
              <a:ext cx="39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6560" y="70812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76800" y="70812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878520" y="4572000"/>
            <a:ext cx="1835280" cy="1811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897440" y="326880"/>
            <a:ext cx="20779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897440" y="3156120"/>
            <a:ext cx="2085840" cy="136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6859440" y="272880"/>
            <a:ext cx="1832040" cy="1749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7107120" y="434520"/>
            <a:ext cx="1408320" cy="124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805440" y="3048120"/>
            <a:ext cx="1835280" cy="1815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7107120" y="3200400"/>
            <a:ext cx="1371600" cy="12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3760" y="3219480"/>
            <a:ext cx="6843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6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02440" y="4724280"/>
            <a:ext cx="571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02440" y="2097000"/>
            <a:ext cx="662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1120" y="463680"/>
            <a:ext cx="5670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=0.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57200"/>
            <a:ext cx="4267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Monthly average spatial plot of CMAQ predicte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i="1" lang="en-US" sz="3600" spc="-1" strike="noStrike" baseline="-25000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before and after emissions reallocation for May and August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52:10Z</dcterms:created>
  <dc:creator>TARPLEY</dc:creator>
  <dc:description/>
  <dc:language>en-US</dc:language>
  <cp:lastModifiedBy>Roy</cp:lastModifiedBy>
  <dcterms:modified xsi:type="dcterms:W3CDTF">2007-09-21T17:43:19Z</dcterms:modified>
  <cp:revision>749</cp:revision>
  <dc:subject/>
  <dc:title>PowerPoint Presentation</dc:title>
</cp:coreProperties>
</file>